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560A6660-182D-4D58-AB60-1129F3216530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Feedback to Scenario II from 3rd Dec 2004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8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100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1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3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36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44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55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6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9640" y="3141720"/>
            <a:ext cx="1436760" cy="936720"/>
            <a:chOff x="539640" y="3141720"/>
            <a:chExt cx="1436760" cy="936720"/>
          </a:xfrm>
        </p:grpSpPr>
        <p:sp>
          <p:nvSpPr>
            <p:cNvPr id="178" name=""/>
            <p:cNvSpPr/>
            <p:nvPr/>
          </p:nvSpPr>
          <p:spPr>
            <a:xfrm>
              <a:off x="539640" y="314172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14160" y="3684960"/>
              <a:ext cx="1352880" cy="139680"/>
              <a:chOff x="614160" y="3684960"/>
              <a:chExt cx="1352880" cy="139680"/>
            </a:xfrm>
          </p:grpSpPr>
          <p:sp>
            <p:nvSpPr>
              <p:cNvPr id="180" name=""/>
              <p:cNvSpPr/>
              <p:nvPr/>
            </p:nvSpPr>
            <p:spPr>
              <a:xfrm>
                <a:off x="614160" y="368496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0240" y="370260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79240" y="3848400"/>
              <a:ext cx="1139040" cy="193680"/>
              <a:chOff x="579240" y="3848400"/>
              <a:chExt cx="1139040" cy="193680"/>
            </a:xfrm>
          </p:grpSpPr>
          <p:sp>
            <p:nvSpPr>
              <p:cNvPr id="183" name=""/>
              <p:cNvSpPr/>
              <p:nvPr/>
            </p:nvSpPr>
            <p:spPr>
              <a:xfrm>
                <a:off x="579240" y="38484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77240" y="38880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14160" y="3513240"/>
              <a:ext cx="846000" cy="152640"/>
              <a:chOff x="614160" y="3513240"/>
              <a:chExt cx="846000" cy="152640"/>
            </a:xfrm>
          </p:grpSpPr>
          <p:sp>
            <p:nvSpPr>
              <p:cNvPr id="186" name=""/>
              <p:cNvSpPr/>
              <p:nvPr/>
            </p:nvSpPr>
            <p:spPr>
              <a:xfrm>
                <a:off x="614160" y="352116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84440" y="351324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269720" y="3183120"/>
              <a:ext cx="280440" cy="291960"/>
              <a:chOff x="1269720" y="3183120"/>
              <a:chExt cx="280440" cy="2919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1269720" y="3183120"/>
                <a:ext cx="78120" cy="291960"/>
                <a:chOff x="1269720" y="3183120"/>
                <a:chExt cx="78120" cy="2919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1269720" y="31831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269720" y="32414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69720" y="33292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269720" y="3358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269720" y="33876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269720" y="34167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269720" y="34459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3284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30860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2891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1416960" y="32781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560240" y="3183120"/>
              <a:ext cx="375840" cy="291960"/>
              <a:chOff x="1560240" y="3183120"/>
              <a:chExt cx="375840" cy="2919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560240" y="3183120"/>
                <a:ext cx="77040" cy="291960"/>
                <a:chOff x="1560240" y="3183120"/>
                <a:chExt cx="77040" cy="29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560240" y="31831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560240" y="32414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560240" y="33292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60240" y="3358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560240" y="33876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560240" y="34167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560240" y="34459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1784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9876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79320" y="33580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91640" y="32781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87520" y="31989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76640" y="537372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98680" y="5091120"/>
            <a:ext cx="1595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Siemens Sans"/>
              </a:rPr>
              <a:t>onv varian on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08200" y="5211720"/>
            <a:ext cx="4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059280" y="5164200"/>
            <a:ext cx="186840" cy="349200"/>
            <a:chOff x="3059280" y="5164200"/>
            <a:chExt cx="186840" cy="349200"/>
          </a:xfrm>
        </p:grpSpPr>
        <p:sp>
          <p:nvSpPr>
            <p:cNvPr id="220" name=""/>
            <p:cNvSpPr/>
            <p:nvPr/>
          </p:nvSpPr>
          <p:spPr>
            <a:xfrm>
              <a:off x="3133800" y="51642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59280" y="53722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33800" y="52340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33800" y="5338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0840" y="53913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97080" y="54262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81240" y="54612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092400" y="53913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2160" y="5489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53928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147840" y="53913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927880" y="55864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40480" y="5025960"/>
            <a:ext cx="9079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Bramb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ff0000"/>
                </a:solidFill>
                <a:latin typeface="Siemens Sans"/>
              </a:rPr>
              <a:t>OUTDO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1720" y="508644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5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438880" y="4970520"/>
            <a:ext cx="109440" cy="371520"/>
            <a:chOff x="5438880" y="4970520"/>
            <a:chExt cx="109440" cy="371520"/>
          </a:xfrm>
        </p:grpSpPr>
        <p:sp>
          <p:nvSpPr>
            <p:cNvPr id="235" name=""/>
            <p:cNvSpPr/>
            <p:nvPr/>
          </p:nvSpPr>
          <p:spPr>
            <a:xfrm>
              <a:off x="5438880" y="49705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38880" y="5044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38880" y="5156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38880" y="5193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38880" y="52304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8880" y="52678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8880" y="53049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2096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9360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6240" y="51933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364360" y="536580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639880" y="5672160"/>
            <a:ext cx="111240" cy="371520"/>
            <a:chOff x="2639880" y="5672160"/>
            <a:chExt cx="111240" cy="371520"/>
          </a:xfrm>
        </p:grpSpPr>
        <p:sp>
          <p:nvSpPr>
            <p:cNvPr id="247" name=""/>
            <p:cNvSpPr/>
            <p:nvPr/>
          </p:nvSpPr>
          <p:spPr>
            <a:xfrm>
              <a:off x="2639880" y="5672160"/>
              <a:ext cx="111240" cy="371520"/>
            </a:xfrm>
            <a:custGeom>
              <a:avLst/>
              <a:gdLst>
                <a:gd name="textAreaLeft" fmla="*/ 5400 w 111240"/>
                <a:gd name="textAreaRight" fmla="*/ 105840 w 111240"/>
                <a:gd name="textAreaTop" fmla="*/ 5400 h 371520"/>
                <a:gd name="textAreaBottom" fmla="*/ 366120 h 371520"/>
              </a:gdLst>
              <a:ahLst/>
              <a:rect l="textAreaLeft" t="textAreaTop" r="textAreaRight" b="textAreaBottom"/>
              <a:pathLst>
                <a:path w="21600" h="71977">
                  <a:moveTo>
                    <a:pt x="3600" y="0"/>
                  </a:moveTo>
                  <a:arcTo wR="3600" hR="3600" stAng="16200000" swAng="-5400000"/>
                  <a:lnTo>
                    <a:pt x="0" y="68377"/>
                  </a:lnTo>
                  <a:arcTo wR="3600" hR="3600" stAng="10800000" swAng="-5400000"/>
                  <a:lnTo>
                    <a:pt x="18000" y="719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57463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39880" y="58579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9880" y="58950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9880" y="593208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39880" y="596952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6006600"/>
              <a:ext cx="1112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234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9532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67600" y="58950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865600" y="5683320"/>
            <a:ext cx="1280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Lib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Entry color/ MMS w/o c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58640" y="579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1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4480" y="59878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261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264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276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279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292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7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843360" y="2205000"/>
            <a:ext cx="2124000" cy="604080"/>
            <a:chOff x="3843360" y="2205000"/>
            <a:chExt cx="2124000" cy="604080"/>
          </a:xfrm>
        </p:grpSpPr>
        <p:sp>
          <p:nvSpPr>
            <p:cNvPr id="309" name=""/>
            <p:cNvSpPr/>
            <p:nvPr/>
          </p:nvSpPr>
          <p:spPr>
            <a:xfrm>
              <a:off x="5548320" y="238284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3360" y="238284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ff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9640" y="2205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78560" y="266544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114800" y="3645000"/>
            <a:ext cx="1851120" cy="708840"/>
            <a:chOff x="4114800" y="3645000"/>
            <a:chExt cx="1851120" cy="708840"/>
          </a:xfrm>
        </p:grpSpPr>
        <p:sp>
          <p:nvSpPr>
            <p:cNvPr id="314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316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Siemens Sans"/>
                </a:rPr>
                <a:t>1ID: Multimedia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331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334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971640" y="4292640"/>
            <a:ext cx="186840" cy="349200"/>
            <a:chOff x="971640" y="4292640"/>
            <a:chExt cx="186840" cy="349200"/>
          </a:xfrm>
        </p:grpSpPr>
        <p:sp>
          <p:nvSpPr>
            <p:cNvPr id="346" name=""/>
            <p:cNvSpPr/>
            <p:nvPr/>
          </p:nvSpPr>
          <p:spPr>
            <a:xfrm>
              <a:off x="1046160" y="42926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71640" y="45007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43624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44672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33200" y="45198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09440" y="45547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93600" y="45896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004760" y="45198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74520" y="46180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031400" y="45212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060200" y="45198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246320" y="4511520"/>
            <a:ext cx="128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SISK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= Adonis </a:t>
            </a: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ew 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27600" y="43527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11280" y="5324400"/>
            <a:ext cx="1496880" cy="409320"/>
            <a:chOff x="611280" y="5324400"/>
            <a:chExt cx="1496880" cy="409320"/>
          </a:xfrm>
        </p:grpSpPr>
        <p:grpSp>
          <p:nvGrpSpPr>
            <p:cNvPr id="360" name=""/>
            <p:cNvGrpSpPr/>
            <p:nvPr/>
          </p:nvGrpSpPr>
          <p:grpSpPr>
            <a:xfrm>
              <a:off x="611280" y="5324400"/>
              <a:ext cx="110880" cy="371520"/>
              <a:chOff x="611280" y="5324400"/>
              <a:chExt cx="110880" cy="371520"/>
            </a:xfrm>
          </p:grpSpPr>
          <p:sp>
            <p:nvSpPr>
              <p:cNvPr id="361" name=""/>
              <p:cNvSpPr/>
              <p:nvPr/>
            </p:nvSpPr>
            <p:spPr>
              <a:xfrm>
                <a:off x="611280" y="532440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1280" y="5398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80" y="55101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11280" y="55472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1280" y="55843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1280" y="562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280" y="565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9444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6672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9000" y="5547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18640" y="5445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561168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6880" y="4600440"/>
            <a:ext cx="12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Her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Siemens Sans"/>
              </a:rPr>
              <a:t>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914560" y="5000760"/>
            <a:ext cx="720720" cy="588960"/>
            <a:chOff x="2914560" y="5000760"/>
            <a:chExt cx="720720" cy="588960"/>
          </a:xfrm>
        </p:grpSpPr>
        <p:sp>
          <p:nvSpPr>
            <p:cNvPr id="375" name=""/>
            <p:cNvSpPr/>
            <p:nvPr/>
          </p:nvSpPr>
          <p:spPr>
            <a:xfrm>
              <a:off x="2914560" y="501336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914560" y="500076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524720" y="4064040"/>
            <a:ext cx="720720" cy="588960"/>
            <a:chOff x="7524720" y="4064040"/>
            <a:chExt cx="720720" cy="588960"/>
          </a:xfrm>
        </p:grpSpPr>
        <p:sp>
          <p:nvSpPr>
            <p:cNvPr id="378" name=""/>
            <p:cNvSpPr/>
            <p:nvPr/>
          </p:nvSpPr>
          <p:spPr>
            <a:xfrm>
              <a:off x="7524720" y="4076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524720" y="4064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68360" y="5288040"/>
            <a:ext cx="720720" cy="588960"/>
            <a:chOff x="468360" y="5288040"/>
            <a:chExt cx="720720" cy="588960"/>
          </a:xfrm>
        </p:grpSpPr>
        <p:sp>
          <p:nvSpPr>
            <p:cNvPr id="381" name=""/>
            <p:cNvSpPr/>
            <p:nvPr/>
          </p:nvSpPr>
          <p:spPr>
            <a:xfrm>
              <a:off x="468360" y="530064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68360" y="528804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164360" y="3174840"/>
            <a:ext cx="2015640" cy="542520"/>
            <a:chOff x="7164360" y="3174840"/>
            <a:chExt cx="2015640" cy="542520"/>
          </a:xfrm>
        </p:grpSpPr>
        <p:sp>
          <p:nvSpPr>
            <p:cNvPr id="384" name=""/>
            <p:cNvSpPr/>
            <p:nvPr/>
          </p:nvSpPr>
          <p:spPr>
            <a:xfrm>
              <a:off x="7811640" y="31748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7448400" y="3267000"/>
              <a:ext cx="302400" cy="204840"/>
              <a:chOff x="7448400" y="3267000"/>
              <a:chExt cx="302400" cy="204840"/>
            </a:xfrm>
          </p:grpSpPr>
          <p:sp>
            <p:nvSpPr>
              <p:cNvPr id="386" name=""/>
              <p:cNvSpPr/>
              <p:nvPr/>
            </p:nvSpPr>
            <p:spPr>
              <a:xfrm>
                <a:off x="7448400" y="3371760"/>
                <a:ext cx="23616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31920" y="3386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00240" y="34099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79720" y="3435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749340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452720" y="34545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7528320" y="3387600"/>
                <a:ext cx="7596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7569720" y="3386160"/>
                <a:ext cx="7596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14640" y="3267000"/>
                <a:ext cx="23616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9160" y="32986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46320" y="334332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164360" y="3205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73880" y="3579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Arial"/>
                </a:rPr>
                <a:t>16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811640" y="3376440"/>
              <a:ext cx="133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3rd ID: BUSIN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 flipV="1">
            <a:off x="1763640" y="4508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384880" y="3852720"/>
            <a:ext cx="1851120" cy="547200"/>
            <a:chOff x="5384880" y="3852720"/>
            <a:chExt cx="1851120" cy="547200"/>
          </a:xfrm>
        </p:grpSpPr>
        <p:sp>
          <p:nvSpPr>
            <p:cNvPr id="402" name=""/>
            <p:cNvSpPr/>
            <p:nvPr/>
          </p:nvSpPr>
          <p:spPr>
            <a:xfrm>
              <a:off x="5867280" y="3894120"/>
              <a:ext cx="13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5504040" y="3949560"/>
              <a:ext cx="303120" cy="204840"/>
              <a:chOff x="5504040" y="3949560"/>
              <a:chExt cx="303120" cy="204840"/>
            </a:xfrm>
          </p:grpSpPr>
          <p:sp>
            <p:nvSpPr>
              <p:cNvPr id="404" name=""/>
              <p:cNvSpPr/>
              <p:nvPr/>
            </p:nvSpPr>
            <p:spPr>
              <a:xfrm>
                <a:off x="5504040" y="40543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7920" y="406872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556240" y="409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535720" y="4118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554976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508720" y="4137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584680" y="407016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5626080" y="40687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70640" y="39495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45160" y="398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02320" y="40258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5384880" y="385272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29520" y="4262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67280" y="4059360"/>
              <a:ext cx="13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Siemens Sans"/>
                </a:rPr>
                <a:t>2nd ID: MUS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419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421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707800" y="537372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Siemens Sans"/>
              </a:rPr>
              <a:t>P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280400" y="4457880"/>
            <a:ext cx="2452320" cy="675720"/>
            <a:chOff x="4280400" y="4457880"/>
            <a:chExt cx="2452320" cy="675720"/>
          </a:xfrm>
        </p:grpSpPr>
        <p:grpSp>
          <p:nvGrpSpPr>
            <p:cNvPr id="436" name=""/>
            <p:cNvGrpSpPr/>
            <p:nvPr/>
          </p:nvGrpSpPr>
          <p:grpSpPr>
            <a:xfrm>
              <a:off x="4633920" y="4597560"/>
              <a:ext cx="186840" cy="349200"/>
              <a:chOff x="4633920" y="4597560"/>
              <a:chExt cx="186840" cy="349200"/>
            </a:xfrm>
          </p:grpSpPr>
          <p:sp>
            <p:nvSpPr>
              <p:cNvPr id="437" name=""/>
              <p:cNvSpPr/>
              <p:nvPr/>
            </p:nvSpPr>
            <p:spPr>
              <a:xfrm>
                <a:off x="4708440" y="459756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33920" y="480564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08440" y="466740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8440" y="47721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95480" y="48247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671720" y="48596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655880" y="48945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7040" y="482472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36800" y="4923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693680" y="482616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4722480" y="482472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4919760" y="452628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0400" y="46850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8280" y="445788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83520" y="4996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4840" y="447048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4498920" y="4437000"/>
            <a:ext cx="720720" cy="588960"/>
            <a:chOff x="4498920" y="4437000"/>
            <a:chExt cx="720720" cy="588960"/>
          </a:xfrm>
        </p:grpSpPr>
        <p:sp>
          <p:nvSpPr>
            <p:cNvPr id="454" name=""/>
            <p:cNvSpPr/>
            <p:nvPr/>
          </p:nvSpPr>
          <p:spPr>
            <a:xfrm>
              <a:off x="4498920" y="4449600"/>
              <a:ext cx="72072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498920" y="4437000"/>
              <a:ext cx="7207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 flipV="1">
            <a:off x="4788000" y="4221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4221000"/>
            <a:ext cx="1555920" cy="584640"/>
            <a:chOff x="2050920" y="4221000"/>
            <a:chExt cx="1555920" cy="584640"/>
          </a:xfrm>
        </p:grpSpPr>
        <p:grpSp>
          <p:nvGrpSpPr>
            <p:cNvPr id="458" name=""/>
            <p:cNvGrpSpPr/>
            <p:nvPr/>
          </p:nvGrpSpPr>
          <p:grpSpPr>
            <a:xfrm>
              <a:off x="2050920" y="4221000"/>
              <a:ext cx="187560" cy="349200"/>
              <a:chOff x="2050920" y="4221000"/>
              <a:chExt cx="187560" cy="349200"/>
            </a:xfrm>
          </p:grpSpPr>
          <p:sp>
            <p:nvSpPr>
              <p:cNvPr id="459" name=""/>
              <p:cNvSpPr/>
              <p:nvPr/>
            </p:nvSpPr>
            <p:spPr>
              <a:xfrm>
                <a:off x="2125800" y="42210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50920" y="44290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25800" y="4290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125800" y="4395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112840" y="4448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9080" y="44830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073240" y="45180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084040" y="44481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054160" y="45464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111400" y="44496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139480" y="44481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2325600" y="4440240"/>
              <a:ext cx="1281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donis II (TFT, MPix) </a:t>
              </a:r>
              <a:r>
                <a:rPr b="1" i="1" lang="de-DE" sz="1000" spc="-1" strike="noStrike">
                  <a:solidFill>
                    <a:srgbClr val="ff0000"/>
                  </a:solidFill>
                  <a:latin typeface="Siemens Sans"/>
                </a:rPr>
                <a:t>Imag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6880" y="4281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574000" y="4246560"/>
            <a:ext cx="44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13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8000" y="4632480"/>
            <a:ext cx="37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Siemens Sans"/>
              </a:rPr>
              <a:t>99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0160" y="2082960"/>
            <a:ext cx="576000" cy="520560"/>
          </a:xfrm>
          <a:prstGeom prst="rect">
            <a:avLst/>
          </a:prstGeom>
          <a:solidFill>
            <a:srgbClr val="00ff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 u="sng">
                <a:solidFill>
                  <a:srgbClr val="ff0000"/>
                </a:solidFill>
                <a:uFillTx/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08000" y="4441680"/>
            <a:ext cx="555840" cy="655920"/>
            <a:chOff x="108000" y="4441680"/>
            <a:chExt cx="555840" cy="655920"/>
          </a:xfrm>
        </p:grpSpPr>
        <p:grpSp>
          <p:nvGrpSpPr>
            <p:cNvPr id="476" name=""/>
            <p:cNvGrpSpPr/>
            <p:nvPr/>
          </p:nvGrpSpPr>
          <p:grpSpPr>
            <a:xfrm>
              <a:off x="108000" y="4508640"/>
              <a:ext cx="111240" cy="371160"/>
              <a:chOff x="108000" y="4508640"/>
              <a:chExt cx="111240" cy="371160"/>
            </a:xfrm>
          </p:grpSpPr>
          <p:sp>
            <p:nvSpPr>
              <p:cNvPr id="477" name=""/>
              <p:cNvSpPr/>
              <p:nvPr/>
            </p:nvSpPr>
            <p:spPr>
              <a:xfrm>
                <a:off x="108000" y="4508640"/>
                <a:ext cx="111240" cy="37116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160"/>
                  <a:gd name="textAreaBottom" fmla="*/ 365760 h 371160"/>
                </a:gdLst>
                <a:ahLst/>
                <a:rect l="textAreaLeft" t="textAreaTop" r="textAreaRight" b="textAreaBottom"/>
                <a:pathLst>
                  <a:path w="21600" h="71907">
                    <a:moveTo>
                      <a:pt x="3600" y="0"/>
                    </a:moveTo>
                    <a:arcTo wR="3600" hR="3600" stAng="16200000" swAng="-5400000"/>
                    <a:lnTo>
                      <a:pt x="0" y="68307"/>
                    </a:lnTo>
                    <a:arcTo wR="3600" hR="3600" stAng="10800000" swAng="-5400000"/>
                    <a:lnTo>
                      <a:pt x="18000" y="719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8000" y="4582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8000" y="4694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8000" y="4731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8000" y="4768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08000" y="4805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8000" y="4842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15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6344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5720" y="47311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308520" y="444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08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4320" y="45385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Siemens Sans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9440" y="494496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ff0000"/>
                  </a:solidFill>
                  <a:latin typeface="Siemens Sans"/>
                </a:rPr>
                <a:t>95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3754440" y="5614920"/>
            <a:ext cx="1393920" cy="467280"/>
            <a:chOff x="3754440" y="5614920"/>
            <a:chExt cx="1393920" cy="467280"/>
          </a:xfrm>
        </p:grpSpPr>
        <p:sp>
          <p:nvSpPr>
            <p:cNvPr id="491" name=""/>
            <p:cNvSpPr/>
            <p:nvPr/>
          </p:nvSpPr>
          <p:spPr>
            <a:xfrm>
              <a:off x="3780000" y="58993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562800" y="5614920"/>
            <a:ext cx="1393920" cy="649800"/>
            <a:chOff x="6562800" y="5614920"/>
            <a:chExt cx="1393920" cy="649800"/>
          </a:xfrm>
        </p:grpSpPr>
        <p:sp>
          <p:nvSpPr>
            <p:cNvPr id="506" name=""/>
            <p:cNvSpPr/>
            <p:nvPr/>
          </p:nvSpPr>
          <p:spPr>
            <a:xfrm>
              <a:off x="6588360" y="5899320"/>
              <a:ext cx="136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875640" y="5614920"/>
              <a:ext cx="303120" cy="204840"/>
              <a:chOff x="6875640" y="5614920"/>
              <a:chExt cx="303120" cy="204840"/>
            </a:xfrm>
          </p:grpSpPr>
          <p:sp>
            <p:nvSpPr>
              <p:cNvPr id="508" name=""/>
              <p:cNvSpPr/>
              <p:nvPr/>
            </p:nvSpPr>
            <p:spPr>
              <a:xfrm>
                <a:off x="687564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5952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2784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0732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692136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8032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95628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99768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4224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01676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7392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656280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7381800" y="5229360"/>
            <a:ext cx="1054080" cy="365400"/>
            <a:chOff x="7381800" y="5229360"/>
            <a:chExt cx="1054080" cy="365400"/>
          </a:xfrm>
        </p:grpSpPr>
        <p:sp>
          <p:nvSpPr>
            <p:cNvPr id="521" name=""/>
            <p:cNvSpPr/>
            <p:nvPr/>
          </p:nvSpPr>
          <p:spPr>
            <a:xfrm>
              <a:off x="7810920" y="5364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81800" y="5229360"/>
              <a:ext cx="93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8132760" y="5300640"/>
              <a:ext cx="303120" cy="204840"/>
              <a:chOff x="8132760" y="5300640"/>
              <a:chExt cx="303120" cy="204840"/>
            </a:xfrm>
          </p:grpSpPr>
          <p:sp>
            <p:nvSpPr>
              <p:cNvPr id="524" name=""/>
              <p:cNvSpPr/>
              <p:nvPr/>
            </p:nvSpPr>
            <p:spPr>
              <a:xfrm>
                <a:off x="8132760" y="540540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216640" y="541980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84960" y="5443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164440" y="54691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817848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137440" y="548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8213400" y="542124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8254800" y="541980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199360" y="530064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73880" y="53323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231040" y="5376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3492360" y="5373720"/>
            <a:ext cx="151128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43640" y="551664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093080" y="5013360"/>
            <a:ext cx="151128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2-06T17:21:43Z</dcterms:modified>
  <cp:revision>10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6899542</vt:r8>
  </property>
  <property fmtid="{D5CDD505-2E9C-101B-9397-08002B2CF9AE}" pid="3" name="_AuthorEmail">
    <vt:lpwstr>hans-peter.hoeckenreiner@siemens.com</vt:lpwstr>
  </property>
  <property fmtid="{D5CDD505-2E9C-101B-9397-08002B2CF9AE}" pid="4" name="_AuthorEmailDisplayName">
    <vt:lpwstr>Hoeckenreiner Hans-Peter ICM MP PD PGG</vt:lpwstr>
  </property>
  <property fmtid="{D5CDD505-2E9C-101B-9397-08002B2CF9AE}" pid="5" name="_EmailEntryID">
    <vt:lpwstr>0000000008915630F8A2FF418EE7142716FD55510700FD3615DE7618D511999C00508BB950F7000001221F410000A1E1BC96BF4F394FBF742F3042BC96C700000037E2B60000</vt:lpwstr>
  </property>
  <property fmtid="{D5CDD505-2E9C-101B-9397-08002B2CF9AE}" pid="6" name="_EmailStoreID">
    <vt:lpwstr>0000000038A1BB1005E5101AA1BB08002B2A56C20000454D534D44422E444C4C00000000000000001B55FA20AA6611CD9BC800AA002FC45A0C0000004D48484132324B43002F6F3D53434E2F6F753D5342534D434848303031452F636E3D526563697069656E74732F636E3D6D6368706D34303000</vt:lpwstr>
  </property>
  <property fmtid="{D5CDD505-2E9C-101B-9397-08002B2CF9AE}" pid="7" name="_EmailSubject">
    <vt:lpwstr>Scenario_2.ppt</vt:lpwstr>
  </property>
  <property fmtid="{D5CDD505-2E9C-101B-9397-08002B2CF9AE}" pid="8" name="_ReviewCycleID">
    <vt:r8>821996227</vt:r8>
  </property>
  <property fmtid="{D5CDD505-2E9C-101B-9397-08002B2CF9AE}" pid="9" name="_ReviewingToolsShownOnce">
    <vt:lpwstr/>
  </property>
</Properties>
</file>